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7828-700D-49DD-92FD-8EDAF5A8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C609-474B-4A4A-A045-AD55F6F0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06D3-85D1-4A46-81DB-92264603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F782-E204-4116-A947-970E8329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12DA-B0BE-45EE-9C3B-4E2DD594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2843-4849-4016-8CB0-396B9703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C5EC-FA43-4034-BFCA-8763B4C4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2A43-760A-47A3-9C90-65D3A016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14DD-1B10-4363-BC89-4A27F464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4993-64C2-42B2-B8BD-FC6828D3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4855-09C9-4C88-A4F2-548289F6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F455-01EE-4C06-9E21-2899B0C5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D642-B840-48AE-93E9-5A8A4E6B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1FB9-9412-4E1B-8789-ABD4A589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7F73-CB5F-43E9-8FE8-44E48B93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A241-09B2-481E-83C4-7180F2E8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CAC5-637E-4EC3-AF02-0B10B408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F3ED-7E60-4ECE-8CFA-6FC40D85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7912-0B3A-4198-829E-EBBE3173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D672-6680-4A4A-B874-1B5C98E6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37FE-77A6-4B33-8A6A-A9851125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DF90-EF0C-4D7A-B70D-3C4FDD3C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A57A-FBF6-4D96-BE60-79CEF471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49BCF-7820-43B4-9709-258513ED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1054-F403-4196-A1FD-5FC25F3833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ic Just – dictyBase – Northwestern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8DDB-E328-4ED4-93DD-220F44C365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Porting CHADO and GMOD Tools to Oracle and Integration with dictyBase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 J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cty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dictybase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Genetic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thwester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600200" y="3505320"/>
            <a:ext cx="61722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table’ database abstrac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00200" y="2133720"/>
            <a:ext cx="2590920" cy="12189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ous middleware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tion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2819520"/>
            <a:ext cx="34290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43400" y="2133720"/>
            <a:ext cx="34290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Presenta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ing into dictyBase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4648320"/>
            <a:ext cx="1828800" cy="129528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038480" y="4070160"/>
            <a:ext cx="0" cy="5331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11760" y="4083120"/>
            <a:ext cx="0" cy="5331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1B58-FA45-41D8-8198-3B88B450D2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600200" y="3505320"/>
            <a:ext cx="30481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table’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2819520"/>
            <a:ext cx="4648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2133720"/>
            <a:ext cx="4648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Presenta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00600" y="3505320"/>
            <a:ext cx="29718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::DBI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ing into dictyBase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0" y="4724280"/>
            <a:ext cx="1828800" cy="129564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819520" y="4146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592440" y="41590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81480" y="4724280"/>
            <a:ext cx="1828800" cy="129564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5715000" y="4146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488280" y="41590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2144880"/>
            <a:ext cx="1371600" cy="12189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o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5174-5BCA-4420-A486-948B72805F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ctyBase Objec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rieve, insert, update, dele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ignorant of sch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esentation in data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ed with lazy evaluation most ac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 – 80% unit test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8537-FDB7-44C7-9E81-D7E04BFDA9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e BioPer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io::Seq to represent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io::SeqFeatures to represent transcript and alignment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ness the power of BioPerl for sequence tasks, file 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BioPerl only used for sequence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4C1D-335D-4ED0-AD27-76E03EB401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05280" y="1752480"/>
            <a:ext cx="12193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6280" y="3276720"/>
            <a:ext cx="1219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47680" y="4572000"/>
            <a:ext cx="19051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162080" y="388584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90880" y="3276720"/>
            <a:ext cx="1219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05080" y="4572000"/>
            <a:ext cx="260496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600360" y="3886200"/>
            <a:ext cx="0" cy="657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71960" y="3276720"/>
            <a:ext cx="2057400" cy="91440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48280" y="4572000"/>
            <a:ext cx="198108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039000" y="4266720"/>
            <a:ext cx="0" cy="30492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182000" y="3276720"/>
            <a:ext cx="175248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86560" y="4572000"/>
            <a:ext cx="12193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096400" y="388584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059720" y="1828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31800" y="33526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45320" y="3352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50800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261200" y="33526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67280" y="3657600"/>
            <a:ext cx="207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OverlappingFeature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OverlappingAlignment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400640" y="2295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62080" y="2895480"/>
            <a:ext cx="69343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14760" y="2438280"/>
            <a:ext cx="7920" cy="4460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6208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0036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3900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9640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376720" y="4724280"/>
            <a:ext cx="25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::Transcri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44680" y="4724280"/>
            <a:ext cx="19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44080" y="4724280"/>
            <a:ext cx="19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714800" y="472428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4" name=""/>
          <p:cNvCxnSpPr>
            <a:stCxn id="596" idx="2"/>
            <a:endCxn id="605" idx="2"/>
          </p:cNvCxnSpPr>
          <p:nvPr/>
        </p:nvCxnSpPr>
        <p:spPr>
          <a:xfrm flipH="1" rot="16200000">
            <a:off x="4647600" y="1673640"/>
            <a:ext cx="2160" cy="6896880"/>
          </a:xfrm>
          <a:prstGeom prst="bentConnector3">
            <a:avLst>
              <a:gd name="adj1" fmla="val 61400000"/>
            </a:avLst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625" name=""/>
          <p:cNvCxnSpPr>
            <a:stCxn id="599" idx="2"/>
            <a:endCxn id="605" idx="2"/>
          </p:cNvCxnSpPr>
          <p:nvPr/>
        </p:nvCxnSpPr>
        <p:spPr>
          <a:xfrm flipH="1" rot="16200000">
            <a:off x="5850720" y="2877840"/>
            <a:ext cx="2160" cy="4488840"/>
          </a:xfrm>
          <a:prstGeom prst="bentConnector3">
            <a:avLst>
              <a:gd name="adj1" fmla="val 42900000"/>
            </a:avLst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626" name=""/>
          <p:cNvCxnSpPr/>
          <p:nvPr/>
        </p:nvCxnSpPr>
        <p:spPr>
          <a:xfrm flipH="1" rot="16200000">
            <a:off x="7065720" y="4077360"/>
            <a:ext cx="2160" cy="2057760"/>
          </a:xfrm>
          <a:prstGeom prst="bentConnector3">
            <a:avLst>
              <a:gd name="adj1" fmla="val 28400000"/>
            </a:avLst>
          </a:prstGeom>
          <a:ln w="31680">
            <a:solidFill>
              <a:srgbClr val="ffffff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D48A-BEF3-40C3-B0CE-B3C2C5340A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bject use case: Add an Exon, dbxref, and Descrip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280" y="1600200"/>
            <a:ext cx="8839440" cy="457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#!pe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use dicty::Fe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transcript = new dicty::Feature( -feature_no =&gt; 218420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description( ‘Gene model derived from AU12345'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add_external_id( -source =&gt; ‘GenBank Accession Number'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id     =&gt; 'AU12345'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bioperl = $transcript-&gt;bioper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[$bioperl-&gt;exons()]-&gt;[2]-&gt;start( 281050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exon = Bio::SeqFeature::Gene::Exon-&gt;new(    -start  =&gt; 280921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end    =&gt; 280959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strand =&gt; -1  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exon-&gt;is_coding(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bioperl-&gt;add_exon($exon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1200-F802-4720-98D7-4805CE546E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5784840" y="1941480"/>
            <a:ext cx="914400" cy="4572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03560" y="1865160"/>
            <a:ext cx="914400" cy="4572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ing Apoll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laptop"/>
          <p:cNvSpPr/>
          <p:nvPr/>
        </p:nvSpPr>
        <p:spPr>
          <a:xfrm>
            <a:off x="7308720" y="2170080"/>
            <a:ext cx="1352520" cy="1143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461960" y="2169720"/>
            <a:ext cx="51300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1517760" y="3008160"/>
            <a:ext cx="57909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02240" y="4227480"/>
            <a:ext cx="57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 segment through SOAP message over HT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517400" y="2279520"/>
            <a:ext cx="507960" cy="1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51520" y="224640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6775200" y="232200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902240" y="4608360"/>
            <a:ext cx="40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layer generates GenBank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4400" y="5370480"/>
            <a:ext cx="63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y, in Apollo send changed gene models back via SO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11960" y="5791320"/>
            <a:ext cx="60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or changes gene models and updates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0720" y="4075200"/>
            <a:ext cx="762120" cy="121896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22120" y="217008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07920" y="323676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55640" y="3236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Cloud"/>
          <p:cNvSpPr/>
          <p:nvPr/>
        </p:nvSpPr>
        <p:spPr>
          <a:xfrm>
            <a:off x="3498840" y="1560600"/>
            <a:ext cx="1676520" cy="2448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13040" y="5000760"/>
            <a:ext cx="42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 GenBank File via SOAP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7613640" y="2324160"/>
            <a:ext cx="789120" cy="4366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 rot="1219800">
            <a:off x="3809520" y="1752480"/>
            <a:ext cx="1295640" cy="6685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2203560" y="186516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84840" y="1941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B4E9-41A8-404A-907F-E2567DEDA3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w Curation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and Feature curation had to be re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centric’ c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more evidenc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classes that manipulate Objec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5122-0F6C-448A-B255-30582CA899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ere Are We Go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 the flexibility – New Feature Types, feature relations, and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back to GM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ually port different areas into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eedback and testing ground for database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9404-F104-4649-877A-523E5B18A8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cknowleg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895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cty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x Chisholm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rren Kibbe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hel Merch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ra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tra F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cale Gaudet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ren Pilc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informatics Core at Northweste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410080" y="1447920"/>
            <a:ext cx="3353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H (NIGMS and NHGR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M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Brow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Pe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4BC1B-68AE-446E-8069-A584EE0240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yBase based on SG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flexibility in featur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use CHADO for feature data, but ‘dicty’ SGD schema for the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y’ SGD (Oracle) needs to link to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4F21-5C76-4EE5-B162-361E5B03B4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hema 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airy did most of this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o tweak Oracle Produ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name limited to 30 characters, systematically truncate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/primary keys on CLOBs (text) not allowed, changed to varchar2(4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’ reserved name in Oracle, changed name to ‘SYNONYM _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B847-720C-4FFA-82B9-2D31FD8DF1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ass::D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::DBI provides nice ‘table level’ 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U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follow references WITHOUT WRITING SQ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tool for 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ships with Class::DBI configured for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to fix/customize Oracl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9DE6-5FFA-42AB-A780-00CF550B59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toD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age which loads Class::DBI classes for each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class name Chado::Synonym but call set_up_table( ‘synonym_’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‘residues’ a ‘lazy’ column of Chado::Fe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Significant porting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5AA1-D7E0-446C-A732-EB841B936D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 Migr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274320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2286000"/>
            <a:ext cx="838440" cy="129528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F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2666880"/>
            <a:ext cx="1295280" cy="6098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86600" y="2362320"/>
            <a:ext cx="990720" cy="121896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19320" y="2438280"/>
            <a:ext cx="990360" cy="121932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9800" y="4952880"/>
            <a:ext cx="57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rt chromosome sequences and locations in GF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752480" y="3505320"/>
            <a:ext cx="5791320" cy="914400"/>
            <a:chOff x="1752480" y="3505320"/>
            <a:chExt cx="5791320" cy="914400"/>
          </a:xfrm>
        </p:grpSpPr>
        <p:sp>
          <p:nvSpPr>
            <p:cNvPr id="536" name=""/>
            <p:cNvSpPr/>
            <p:nvPr/>
          </p:nvSpPr>
          <p:spPr>
            <a:xfrm>
              <a:off x="2209680" y="3505320"/>
              <a:ext cx="4876920" cy="76176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581280"/>
              <a:ext cx="5334120" cy="76212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52480" y="3657600"/>
              <a:ext cx="5791320" cy="76212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907640" y="533412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GFF3 into CHADO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10160" y="5715000"/>
            <a:ext cx="57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references to features with new tables and id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21560" y="2819520"/>
            <a:ext cx="7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B2D0-CA9A-45EF-88E8-95F40D1DE1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822240" y="140796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ws’ method does not exist in Oracle DBI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Browse 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" y="1905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2666880"/>
            <a:ext cx="739116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rows_returned = @{$sth-&gt;fetchall_arrayref()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execute or Bio::Root::Root-&gt;thr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if ( $rows_returned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== 0) {…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90720" y="1905120"/>
            <a:ext cx="7315200" cy="30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if ($sth-&gt;rows() == 0) {…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3886200"/>
            <a:ext cx="78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cle fetchrow_hashref() is case sen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4343400"/>
            <a:ext cx="73152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fetchrow_hashref()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5181480"/>
            <a:ext cx="739152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fetchrow_hashref("NAME_lc"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2362320"/>
            <a:ext cx="7617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91120" y="4834080"/>
            <a:ext cx="7617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D680-94CB-41A7-93A7-6B50139966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Browse porting - Quer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91584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select f.feature_id, f.name, fl.fmin,fl.f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from feature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join featureloc fl      using (feature_i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where f.feature_id = 221659 and fl.rank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200400"/>
            <a:ext cx="8229600" cy="91440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select f.feature_id, f.name, fl.fmin,fl.f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from feature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join featureloc fl      on f.feature_id = fl.feature_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where f.feature_id = 221659 and fl.rank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9520" y="1219320"/>
            <a:ext cx="83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cle does not like anything in a ‘using’ clause to also be in the ‘where’ cl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14800" y="2819520"/>
            <a:ext cx="7621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4572000"/>
            <a:ext cx="80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string’ becomes ‘subst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SQL containing synonym table must be mod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procedural SQL must be reproduced, in some cases this can be avoi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2667-7C4F-48B1-9DB6-A82A19E8AA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is_deleted flag to featur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some audit colum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audit table and trig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Indexes Heuris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hints to some difficult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FC69-D061-41B7-96D0-085C1663C0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39:44Z</dcterms:created>
  <dc:creator>cgm</dc:creator>
  <dc:description/>
  <dc:language>en-US</dc:language>
  <cp:lastModifiedBy>eric</cp:lastModifiedBy>
  <dcterms:modified xsi:type="dcterms:W3CDTF">2005-05-17T18:57:26Z</dcterms:modified>
  <cp:revision>63</cp:revision>
  <dc:subject/>
  <dc:title>Slide 1</dc:title>
</cp:coreProperties>
</file>